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51A-9A96-4B26-ADBE-6FF34554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D40-6151-4ED2-A8C8-D746E50D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6C9-B09F-4487-AD10-8371C7F7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ED3-A2CF-4790-A994-607D0E31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927-828F-49E1-921F-F8936803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D49-9303-4390-9084-228DA463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2E4-A742-4C8E-B0E2-FFA0FB97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06D-24FC-4F65-A795-0463C3C8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D31-1EE1-4E63-A059-4603B38B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02F-2A2A-415A-8B5E-12F6CE6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E3E-60A3-4D1F-96D2-AD9BF21B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097-DF9B-452C-B9AF-C831190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16EF-BFF1-4546-9F02-DA3A544E1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adeloupe tres beau!  Je suis resté à la station dans l’Abaka Bay Hôtel.  Je suis arrivé à la suite de plage!!!!!  Je suis monté jeep safari dans le republique dominicaine.  Tres superbe!  Je n’ai jamais à la plage.  J’ai mangé coq au vin dans aux côte jard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371600" y="59436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Arial"/>
              </a:rPr>
              <a:t>GUADEL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14040" y="37339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Courtne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oloupe tres beau!  Je s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la station dans l’Abaka bay hôtel.  Je suis arrivé à la suite de plage.  Je suis allé nager avec les dauphins, c’était incroyable.  Je n’ai pas visité le jardin botanique.  J’ai mange poulet a  chez la lo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347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019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PUBLIQUE DOMINICA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3580920"/>
            <a:ext cx="68580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la station dans l’Abaka bay Hôtel.  Je suis arrivé à la suite de plage.  Je suis allé jouer au golf.  Je n’ai pas visité tour eiffel.  J’ai  mange des pates a la vara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4876920" cy="32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59436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Le Gol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52680"/>
            <a:ext cx="822960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K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station dans l’Abaka Bay Hôtel  Je suis arrivé à la suite de plage.  Je suis allé à un musée.  Il était tres coloré  Je n’ai pas bronzer à la plage.  Je n’ai pas mangé ce so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Front door of St. Jean Perse Museum. Pointe-à-Pitre, Guadeloupe."/>
          <p:cNvPicPr/>
          <p:nvPr/>
        </p:nvPicPr>
        <p:blipFill>
          <a:blip r:embed="rId1"/>
          <a:stretch/>
        </p:blipFill>
        <p:spPr>
          <a:xfrm>
            <a:off x="1219320" y="152280"/>
            <a:ext cx="648648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791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US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ÉE DANS GUADEL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23920" y="12952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re Mat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deloupe tres beau!  Je suis r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é à la station dans l’Abaka Bay Hôtel  Je suis arrivé a la suite de plage.  J’ai resté à la hôtel pour le dernére journée.  Je n’ai pas aller fair du kayak.  Je suis mangé un grand diner à la salade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itié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496040" cy="487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-34290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2286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I FIG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42:22Z</dcterms:created>
  <dc:creator>rabidouspe</dc:creator>
  <dc:description/>
  <dc:language>en-US</dc:language>
  <cp:lastModifiedBy>rabidouspe</cp:lastModifiedBy>
  <dcterms:modified xsi:type="dcterms:W3CDTF">2012-02-03T13:35:24Z</dcterms:modified>
  <cp:revision>8</cp:revision>
  <dc:subject/>
  <dc:title>Slide 1</dc:title>
</cp:coreProperties>
</file>